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25.pct" ContentType="image/x-pict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0.gif" ContentType="image/gif"/>
  <Override PartName="/ppt/media/image6.pct" ContentType="image/x-pict"/>
  <Override PartName="/ppt/media/image5.gif" ContentType="image/gif"/>
  <Override PartName="/ppt/media/image11.jpeg" ContentType="image/jpeg"/>
  <Override PartName="/ppt/media/image26.pct" ContentType="image/x-pict"/>
  <Override PartName="/ppt/media/image4.gif" ContentType="image/gif"/>
  <Override PartName="/ppt/media/image20.pct" ContentType="image/x-pict"/>
  <Override PartName="/ppt/media/image27.gif" ContentType="image/gif"/>
  <Override PartName="/ppt/media/image24.gif" ContentType="image/gif"/>
  <Override PartName="/ppt/media/image23.gif" ContentType="image/gif"/>
  <Override PartName="/ppt/media/image22.gif" ContentType="image/gif"/>
  <Override PartName="/ppt/media/image14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15.gif" ContentType="image/gif"/>
  <Override PartName="/ppt/media/image1.png" ContentType="image/png"/>
  <Override PartName="/ppt/media/image19.gif" ContentType="image/gif"/>
  <Override PartName="/ppt/media/image2.jpeg" ContentType="image/jpeg"/>
  <Override PartName="/ppt/media/image17.pct" ContentType="image/x-pict"/>
  <Override PartName="/ppt/media/image3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6C20-41AA-43D7-A10B-19B342AE5F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230-7825-4A43-B02A-C9066912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55A-09C0-4A2C-85AC-A5010D6C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A4D1-08EB-4F36-9E60-0B9995CE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991-30FA-453C-A5E2-7E8C30C5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B2CE-6B5C-424E-94E3-44673B0D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F435-98F0-423A-9C6A-64703B23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3254-F59F-4E63-9F03-D82D21FA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DCE7-6162-4D5C-8608-3E81A3F3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8838-CB92-4966-BA18-090E4631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E5AE-D2E2-4169-9E30-447BE7E4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3C4B-3CB3-45FB-A8FC-A2AC61B4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CDA-C036-487F-B27F-E4030EEC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18B5-AE10-495C-96F9-2CAFC190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70CE-AF70-45D7-9C09-294425EC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7D04-BD4F-4344-9C21-0FBEA688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FD11-B2AF-42D2-9425-B5C09269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C035-F769-4531-956A-12329C27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6D4E9-ADE4-4369-8595-3FF3EA57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D63EE-BFE0-4E4C-BD52-4D601280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BEF9F-C716-4841-8AA8-34DD61B1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57877-53E6-4320-896C-EC20C0F0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DA713-7727-473B-8EFD-ADF385E1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9E5-172C-462D-A037-EE55982D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A8FAC-5F19-489C-A6D7-F20CDB69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06247-18F4-419D-BE40-354AB108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1ADE9-27BE-4A35-BBCB-2BA10853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A470E-C5BE-43FD-960D-CC2C4853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EC402-4DED-4E31-A40E-C9B17A42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1E3CB-7B5B-4F0A-BB46-3ADD52E4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8071C-AFA5-418C-A03C-F2C7AD3B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B1CD0-EFE8-4BAB-BCE9-63BDDCB9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FE8E4-6ECB-48D9-A9E0-BA80B3DA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A5A83-B007-463B-9C8E-2F5A2357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D55-4624-4847-9C52-7672D04F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F182E-6C3B-4F08-8840-2C839AE5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ACCEF-5034-436B-8480-7E82C5B5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5B048-8DEA-474F-A42B-EC49EAA6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3AFC7-4E33-4FB9-9306-EFCA0B89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4F00A-63E3-40CA-A171-5A588542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2D554-DD70-49C1-BA39-CB330498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D7E3D-9DC7-4F8A-A05E-ABADCEBE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D3A03-D0CC-4921-9AA5-1E73F73C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1845F-5C1D-4F58-8C5B-0278B66A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213CE-E9D1-469C-9B1E-59031DFE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462-5F4D-4C32-BB8D-331810F3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828F0-FC4E-44C3-BB3B-A20F09FA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2773E-336C-4E26-A89A-25042B28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4FE6D-E2A6-43D0-9138-4887E11D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E6DD7-B012-41DE-AE1F-1E89545E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43142-AA16-4EEC-BC85-FC4B66E4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8B89D-2F14-450B-A1E6-3CBC46BF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D8234-17DF-4521-AC9E-61681768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51FBC-9E7A-4E64-BCD9-128DE8E1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B1EA0-0766-4018-ACC4-F42DD32A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B4D6D-1ED2-4F9C-B43C-EDE2CAA2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A64-546D-43CA-92F9-CFB31AA4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DD6C6-9D5B-4E50-BBBD-FED24703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D48C-E639-4706-9D21-BF42B4AF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9CE-E2DB-493E-9787-1FEAB751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47BA-51D4-4C27-AE97-F4CD3228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3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16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16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16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6D52-2A1B-482C-A841-5C7A0C2D0612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CD73-DBAA-415C-B077-B544AB4C3DAF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2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46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324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32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32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A070-7BB0-4A85-99B5-E636A2F17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pperplate Gothic Light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pperplate Gothic Light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pperplate Gothic Light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pperplate Gothic Light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pperplate Gothic Light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6172-6DE5-42EA-BAB5-CC48E43962F4}" type="slidenum">
              <a:rPr b="0" lang="fr-FR" sz="1400" spc="-1" strike="noStrike">
                <a:solidFill>
                  <a:srgbClr val="000000"/>
                </a:solidFill>
                <a:latin typeface="Copperplate Gothic Light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Copperplate Gothic Light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pperplate Gothic Light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Copperplate Gothic Light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pperplate Gothic Light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Copperplate Gothic Light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B43E-1D47-42DE-BB76-4C4DDB780518}" type="slidenum">
              <a:rPr b="0" lang="de-DE" sz="1400" spc="-1" strike="noStrike">
                <a:solidFill>
                  <a:srgbClr val="000000"/>
                </a:solidFill>
                <a:latin typeface="Copperplate Gothic Light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soft.com/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alculator.app" TargetMode="External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pct"/><Relationship Id="rId5" Type="http://schemas.openxmlformats.org/officeDocument/2006/relationships/image" Target="../media/image10.gif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hyperlink" Target="file:///Calculator.app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24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50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50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50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image" Target="../media/image25.pct"/><Relationship Id="rId4" Type="http://schemas.openxmlformats.org/officeDocument/2006/relationships/image" Target="../media/image26.pct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file:///film_preuve1-cadrage.mov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reuve2_manipulation.fig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7.pct"/><Relationship Id="rId5" Type="http://schemas.openxmlformats.org/officeDocument/2006/relationships/image" Target="../media/image16.gif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rker Felt"/>
              </a:rPr>
              <a:t>À toi de jouer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rker Felt"/>
                <a:ea typeface="Osaka"/>
              </a:rPr>
              <a:t>Pythagore te questionne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5029200"/>
            <a:ext cx="968400" cy="96840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7924680" y="6324480"/>
            <a:ext cx="990720" cy="304920"/>
          </a:xfrm>
          <a:custGeom>
            <a:avLst/>
            <a:gdLst>
              <a:gd name="textAreaLeft" fmla="*/ 19440 w 990720"/>
              <a:gd name="textAreaRight" fmla="*/ 971280 w 99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0124" h="21600">
                <a:moveTo>
                  <a:pt x="0" y="0"/>
                </a:moveTo>
                <a:lnTo>
                  <a:pt x="70124" y="0"/>
                </a:lnTo>
                <a:lnTo>
                  <a:pt x="70124" y="21600"/>
                </a:lnTo>
                <a:lnTo>
                  <a:pt x="0" y="21600"/>
                </a:lnTo>
                <a:close/>
              </a:path>
              <a:path fill="lightenLess" w="70124" h="21600">
                <a:moveTo>
                  <a:pt x="0" y="0"/>
                </a:moveTo>
                <a:lnTo>
                  <a:pt x="70124" y="0"/>
                </a:lnTo>
                <a:lnTo>
                  <a:pt x="68724" y="1400"/>
                </a:lnTo>
                <a:lnTo>
                  <a:pt x="1400" y="1400"/>
                </a:lnTo>
                <a:close/>
              </a:path>
              <a:path fill="darken" w="70124" h="21600">
                <a:moveTo>
                  <a:pt x="70124" y="0"/>
                </a:moveTo>
                <a:lnTo>
                  <a:pt x="70124" y="21600"/>
                </a:lnTo>
                <a:lnTo>
                  <a:pt x="68724" y="20200"/>
                </a:lnTo>
                <a:lnTo>
                  <a:pt x="68724" y="1400"/>
                </a:lnTo>
                <a:close/>
              </a:path>
              <a:path fill="darkenLess" w="70124" h="21600">
                <a:moveTo>
                  <a:pt x="70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24" y="20200"/>
                </a:lnTo>
                <a:close/>
              </a:path>
              <a:path fill="lighten" w="70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124" h="21600">
                <a:moveTo>
                  <a:pt x="28055" y="3794"/>
                </a:moveTo>
                <a:lnTo>
                  <a:pt x="42068" y="10800"/>
                </a:lnTo>
                <a:lnTo>
                  <a:pt x="28055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3809880"/>
            <a:ext cx="3810240" cy="2210040"/>
          </a:xfrm>
          <a:prstGeom prst="cloudCallout">
            <a:avLst>
              <a:gd name="adj1" fmla="val 54499"/>
              <a:gd name="adj2" fmla="val 7148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434340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Tu dois seulement cliquer aux endroits prévus à cet eff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426708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Tu auras besoin d’un crayon, d’une gomme à effacer, d’une règle et de quelques feuil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Marker Felt"/>
              </a:rPr>
              <a:t>Les cactus de </a:t>
            </a:r>
            <a:r>
              <a:rPr b="0" lang="fr-FR" sz="4400" spc="-1" strike="noStrike">
                <a:solidFill>
                  <a:srgbClr val="000000"/>
                </a:solidFill>
                <a:latin typeface="Marker Felt"/>
              </a:rPr>
              <a:t>Max le Mexic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Maxime a planté trois cactus. Les distances entre les cactus sont de 6,2 mètr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3 mètres et 5,5 mètres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rId1"/>
          </p:cNvPr>
          <p:cNvSpPr/>
          <p:nvPr/>
        </p:nvSpPr>
        <p:spPr>
          <a:xfrm>
            <a:off x="7543800" y="30492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andwriting - Dakota"/>
              </a:rPr>
              <a:t>Calcul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95280" y="60199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76720" y="60199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62120" y="6019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ndwriting - Dakota"/>
              </a:rPr>
              <a:t>a) 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60199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ndwriting - Dakota"/>
              </a:rPr>
              <a:t>b) 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7678800" y="5105520"/>
            <a:ext cx="1047600" cy="1411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457200" y="838080"/>
            <a:ext cx="536400" cy="6001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3962520" y="2286000"/>
            <a:ext cx="3430440" cy="20224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52280" y="4343400"/>
            <a:ext cx="85345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halkboard"/>
                <a:ea typeface="Osaka"/>
              </a:rPr>
              <a:t>Considérant que les cactus sont les sommets d’un triang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halkboard"/>
                <a:ea typeface="Osaka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halkboard"/>
                <a:ea typeface="Osaka"/>
              </a:rPr>
              <a:t>est-ce que celui-ci est rectangle? Clique sur ta réponse.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6019920"/>
            <a:ext cx="1752480" cy="457200"/>
          </a:xfrm>
          <a:custGeom>
            <a:avLst/>
            <a:gdLst>
              <a:gd name="textAreaLeft" fmla="*/ 29520 w 1752480"/>
              <a:gd name="textAreaRight" fmla="*/ 1722960 w 1752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81346" y="1400"/>
                </a:lnTo>
                <a:lnTo>
                  <a:pt x="1400" y="140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81346" y="20200"/>
                </a:lnTo>
                <a:lnTo>
                  <a:pt x="81346" y="140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46" y="2020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6019920"/>
            <a:ext cx="1828800" cy="53316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4055" h="21600">
                <a:moveTo>
                  <a:pt x="0" y="0"/>
                </a:moveTo>
                <a:lnTo>
                  <a:pt x="74055" y="0"/>
                </a:lnTo>
                <a:lnTo>
                  <a:pt x="74055" y="21600"/>
                </a:lnTo>
                <a:lnTo>
                  <a:pt x="0" y="21600"/>
                </a:lnTo>
                <a:close/>
              </a:path>
              <a:path fill="lightenLess" w="74055" h="21600">
                <a:moveTo>
                  <a:pt x="0" y="0"/>
                </a:moveTo>
                <a:lnTo>
                  <a:pt x="74055" y="0"/>
                </a:lnTo>
                <a:lnTo>
                  <a:pt x="72655" y="1400"/>
                </a:lnTo>
                <a:lnTo>
                  <a:pt x="1400" y="1400"/>
                </a:lnTo>
                <a:close/>
              </a:path>
              <a:path fill="darken" w="74055" h="21600">
                <a:moveTo>
                  <a:pt x="74055" y="0"/>
                </a:moveTo>
                <a:lnTo>
                  <a:pt x="74055" y="21600"/>
                </a:lnTo>
                <a:lnTo>
                  <a:pt x="72655" y="20200"/>
                </a:lnTo>
                <a:lnTo>
                  <a:pt x="72655" y="1400"/>
                </a:lnTo>
                <a:close/>
              </a:path>
              <a:path fill="darkenLess" w="74055" h="21600">
                <a:moveTo>
                  <a:pt x="74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55" y="20200"/>
                </a:lnTo>
                <a:close/>
              </a:path>
              <a:path fill="lighten" w="74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6"/>
          <a:stretch/>
        </p:blipFill>
        <p:spPr>
          <a:xfrm>
            <a:off x="6858000" y="380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057400" y="2209680"/>
            <a:ext cx="54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Clique ici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10280" y="5562720"/>
            <a:ext cx="533520" cy="380880"/>
          </a:xfrm>
          <a:custGeom>
            <a:avLst/>
            <a:gdLst>
              <a:gd name="textAreaLeft" fmla="*/ 93600 w 533520"/>
              <a:gd name="textAreaRight" fmla="*/ 386640 w 5335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79" hR="21600" stAng="10800000" swAng="5400000"/>
                <a:lnTo>
                  <a:pt x="11861" y="0"/>
                </a:lnTo>
                <a:arcTo wR="7579" hR="21600" stAng="-5400000" swAng="1054311"/>
                <a:lnTo>
                  <a:pt x="19099" y="5565"/>
                </a:lnTo>
                <a:lnTo>
                  <a:pt x="17299" y="21600"/>
                </a:lnTo>
                <a:lnTo>
                  <a:pt x="10497" y="5565"/>
                </a:lnTo>
                <a:lnTo>
                  <a:pt x="12657" y="5565"/>
                </a:lnTo>
                <a:arcTo wR="7579" hR="21600" stAng="-4345689" swAng="-700348"/>
                <a:lnTo>
                  <a:pt x="9720" y="880"/>
                </a:lnTo>
                <a:arcTo wR="7579" hR="21600" stAng="-5753963" swAng="-5046037"/>
                <a:close/>
              </a:path>
              <a:path fill="darkenLess" w="21600" h="21600">
                <a:moveTo>
                  <a:pt x="0" y="21600"/>
                </a:moveTo>
                <a:arcTo wR="7579" hR="21600" stAng="10800000" swAng="5400000"/>
                <a:lnTo>
                  <a:pt x="7579" y="0"/>
                </a:lnTo>
                <a:arcTo wR="7579" hR="21600" stAng="-5400000" swAng="353963"/>
                <a:lnTo>
                  <a:pt x="9720" y="880"/>
                </a:lnTo>
                <a:arcTo wR="7579" hR="21600" stAng="-5753963" swAng="-5046037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59436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andwriting - Dakota"/>
              </a:rPr>
              <a:t>Tu peux actionner ce bouton seulement après avoir visionner le lie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Marker Felt"/>
              </a:rPr>
              <a:t>Le défi de Domi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809880" y="152388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57200" y="2133720"/>
            <a:ext cx="5334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Afin de vérifier tes aptitudes, Dominique te met au défi de calculer la mesure de la diagonale </a:t>
            </a:r>
            <a:r>
              <a:rPr b="0" lang="fr-FR" sz="2000" spc="-1" strike="noStrike">
                <a:solidFill>
                  <a:srgbClr val="000000"/>
                </a:solidFill>
                <a:latin typeface="Handwriting - Dakota"/>
              </a:rPr>
              <a:t>AG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 de ce prisme rectangulaire. Quelle est cette mesure arrondie au centième près?  Clique sur ta ré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867280" y="274320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7712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95880" y="2971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315200" y="4114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9608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95880" y="4343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505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77120" y="373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1143000" y="762120"/>
            <a:ext cx="1147680" cy="7617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7010280" y="4952880"/>
            <a:ext cx="685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071f"/>
                </a:solidFill>
                <a:latin typeface="Handwriting - Dakota"/>
              </a:rPr>
              <a:t>12</a:t>
            </a:r>
            <a:r>
              <a:rPr b="0" lang="en-US" sz="800" spc="-1" strike="noStrike">
                <a:solidFill>
                  <a:srgbClr val="fb071f"/>
                </a:solidFill>
                <a:latin typeface="Handwriting - Dakota"/>
              </a:rPr>
              <a:t> </a:t>
            </a:r>
            <a:r>
              <a:rPr b="0" lang="en-US" sz="1200" spc="-1" strike="noStrike">
                <a:solidFill>
                  <a:srgbClr val="fb071f"/>
                </a:solidFill>
                <a:latin typeface="Handwriting - Dakota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43600" y="4648320"/>
            <a:ext cx="685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071f"/>
                </a:solidFill>
                <a:latin typeface="Handwriting - Dakota"/>
              </a:rPr>
              <a:t>10</a:t>
            </a:r>
            <a:r>
              <a:rPr b="0" lang="en-US" sz="1200" spc="-1" strike="noStrike">
                <a:solidFill>
                  <a:srgbClr val="fb071f"/>
                </a:solidFill>
                <a:latin typeface="Handwriting - Dakota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7724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071f"/>
                </a:solidFill>
                <a:latin typeface="Handwriting - Dakota"/>
              </a:rPr>
              <a:t>24</a:t>
            </a:r>
            <a:r>
              <a:rPr b="0" lang="en-US" sz="800" spc="-1" strike="noStrike">
                <a:solidFill>
                  <a:srgbClr val="fb071f"/>
                </a:solidFill>
                <a:latin typeface="Handwriting - Dakota"/>
              </a:rPr>
              <a:t> </a:t>
            </a:r>
            <a:r>
              <a:rPr b="0" lang="en-US" sz="1200" spc="-1" strike="noStrike">
                <a:solidFill>
                  <a:srgbClr val="fb071f"/>
                </a:solidFill>
                <a:latin typeface="Handwriting - Dakota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andwriting - Dakota"/>
              </a:rPr>
              <a:t>a)  </a:t>
            </a:r>
            <a:r>
              <a:rPr b="0" lang="fr-FR" sz="3200" spc="-1" strike="noStrike">
                <a:solidFill>
                  <a:srgbClr val="000000"/>
                </a:solidFill>
                <a:latin typeface="Handwriting - Dakota"/>
              </a:rPr>
              <a:t>28,64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c)  </a:t>
            </a:r>
            <a:r>
              <a:rPr b="0" lang="en-US" sz="3200" spc="-1" strike="noStrike">
                <a:solidFill>
                  <a:srgbClr val="000000"/>
                </a:solidFill>
                <a:latin typeface="Handwriting - Dakota"/>
              </a:rPr>
              <a:t>26,83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56386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b)  </a:t>
            </a:r>
            <a:r>
              <a:rPr b="0" lang="en-US" sz="3200" spc="-1" strike="noStrike">
                <a:solidFill>
                  <a:srgbClr val="000000"/>
                </a:solidFill>
                <a:latin typeface="Handwriting - Dakota"/>
              </a:rPr>
              <a:t>12,6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56386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d)  </a:t>
            </a:r>
            <a:r>
              <a:rPr b="0" lang="en-US" sz="3200" spc="-1" strike="noStrike">
                <a:solidFill>
                  <a:srgbClr val="000000"/>
                </a:solidFill>
                <a:latin typeface="Handwriting - Dakota"/>
              </a:rPr>
              <a:t>26,00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3"/>
          </p:cNvPr>
          <p:cNvSpPr/>
          <p:nvPr/>
        </p:nvSpPr>
        <p:spPr>
          <a:xfrm>
            <a:off x="7543800" y="30492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andwriting - Dakota"/>
              </a:rPr>
              <a:t>Calcul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6858000" y="380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048120" y="4648320"/>
            <a:ext cx="2590560" cy="457200"/>
          </a:xfrm>
          <a:custGeom>
            <a:avLst/>
            <a:gdLst>
              <a:gd name="textAreaLeft" fmla="*/ 29520 w 2590560"/>
              <a:gd name="textAreaRight" fmla="*/ 2561040 w 2590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2309" h="21600">
                <a:moveTo>
                  <a:pt x="0" y="0"/>
                </a:moveTo>
                <a:lnTo>
                  <a:pt x="122309" y="0"/>
                </a:lnTo>
                <a:lnTo>
                  <a:pt x="122309" y="21600"/>
                </a:lnTo>
                <a:lnTo>
                  <a:pt x="0" y="21600"/>
                </a:lnTo>
                <a:close/>
              </a:path>
              <a:path fill="lightenLess" w="122309" h="21600">
                <a:moveTo>
                  <a:pt x="0" y="0"/>
                </a:moveTo>
                <a:lnTo>
                  <a:pt x="122309" y="0"/>
                </a:lnTo>
                <a:lnTo>
                  <a:pt x="120909" y="1400"/>
                </a:lnTo>
                <a:lnTo>
                  <a:pt x="1400" y="1400"/>
                </a:lnTo>
                <a:close/>
              </a:path>
              <a:path fill="darken" w="122309" h="21600">
                <a:moveTo>
                  <a:pt x="122309" y="0"/>
                </a:moveTo>
                <a:lnTo>
                  <a:pt x="122309" y="21600"/>
                </a:lnTo>
                <a:lnTo>
                  <a:pt x="120909" y="20200"/>
                </a:lnTo>
                <a:lnTo>
                  <a:pt x="120909" y="1400"/>
                </a:lnTo>
                <a:close/>
              </a:path>
              <a:path fill="darkenLess" w="122309" h="21600">
                <a:moveTo>
                  <a:pt x="122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09" y="20200"/>
                </a:lnTo>
                <a:close/>
              </a:path>
              <a:path fill="lighten" w="122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5715000"/>
            <a:ext cx="2590920" cy="457200"/>
          </a:xfrm>
          <a:custGeom>
            <a:avLst/>
            <a:gdLst>
              <a:gd name="textAreaLeft" fmla="*/ 29520 w 2590920"/>
              <a:gd name="textAreaRight" fmla="*/ 2561400 w 2590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2326" h="21600">
                <a:moveTo>
                  <a:pt x="0" y="0"/>
                </a:moveTo>
                <a:lnTo>
                  <a:pt x="122326" y="0"/>
                </a:lnTo>
                <a:lnTo>
                  <a:pt x="122326" y="21600"/>
                </a:lnTo>
                <a:lnTo>
                  <a:pt x="0" y="21600"/>
                </a:lnTo>
                <a:close/>
              </a:path>
              <a:path fill="lightenLess" w="122326" h="21600">
                <a:moveTo>
                  <a:pt x="0" y="0"/>
                </a:moveTo>
                <a:lnTo>
                  <a:pt x="122326" y="0"/>
                </a:lnTo>
                <a:lnTo>
                  <a:pt x="120926" y="1400"/>
                </a:lnTo>
                <a:lnTo>
                  <a:pt x="1400" y="1400"/>
                </a:lnTo>
                <a:close/>
              </a:path>
              <a:path fill="darken" w="122326" h="21600">
                <a:moveTo>
                  <a:pt x="122326" y="0"/>
                </a:moveTo>
                <a:lnTo>
                  <a:pt x="122326" y="21600"/>
                </a:lnTo>
                <a:lnTo>
                  <a:pt x="120926" y="20200"/>
                </a:lnTo>
                <a:lnTo>
                  <a:pt x="120926" y="1400"/>
                </a:lnTo>
                <a:close/>
              </a:path>
              <a:path fill="darkenLess" w="122326" h="21600">
                <a:moveTo>
                  <a:pt x="1223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26" y="20200"/>
                </a:lnTo>
                <a:close/>
              </a:path>
              <a:path fill="lighten" w="1223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4648320"/>
            <a:ext cx="2590920" cy="457200"/>
          </a:xfrm>
          <a:custGeom>
            <a:avLst/>
            <a:gdLst>
              <a:gd name="textAreaLeft" fmla="*/ 29520 w 2590920"/>
              <a:gd name="textAreaRight" fmla="*/ 2561400 w 2590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2326" h="21600">
                <a:moveTo>
                  <a:pt x="0" y="0"/>
                </a:moveTo>
                <a:lnTo>
                  <a:pt x="122326" y="0"/>
                </a:lnTo>
                <a:lnTo>
                  <a:pt x="122326" y="21600"/>
                </a:lnTo>
                <a:lnTo>
                  <a:pt x="0" y="21600"/>
                </a:lnTo>
                <a:close/>
              </a:path>
              <a:path fill="lightenLess" w="122326" h="21600">
                <a:moveTo>
                  <a:pt x="0" y="0"/>
                </a:moveTo>
                <a:lnTo>
                  <a:pt x="122326" y="0"/>
                </a:lnTo>
                <a:lnTo>
                  <a:pt x="120926" y="1400"/>
                </a:lnTo>
                <a:lnTo>
                  <a:pt x="1400" y="1400"/>
                </a:lnTo>
                <a:close/>
              </a:path>
              <a:path fill="darken" w="122326" h="21600">
                <a:moveTo>
                  <a:pt x="122326" y="0"/>
                </a:moveTo>
                <a:lnTo>
                  <a:pt x="122326" y="21600"/>
                </a:lnTo>
                <a:lnTo>
                  <a:pt x="120926" y="20200"/>
                </a:lnTo>
                <a:lnTo>
                  <a:pt x="120926" y="1400"/>
                </a:lnTo>
                <a:close/>
              </a:path>
              <a:path fill="darkenLess" w="122326" h="21600">
                <a:moveTo>
                  <a:pt x="1223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26" y="20200"/>
                </a:lnTo>
                <a:close/>
              </a:path>
              <a:path fill="lighten" w="1223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715000"/>
            <a:ext cx="2590920" cy="457200"/>
          </a:xfrm>
          <a:custGeom>
            <a:avLst/>
            <a:gdLst>
              <a:gd name="textAreaLeft" fmla="*/ 29520 w 2590920"/>
              <a:gd name="textAreaRight" fmla="*/ 2561400 w 2590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2326" h="21600">
                <a:moveTo>
                  <a:pt x="0" y="0"/>
                </a:moveTo>
                <a:lnTo>
                  <a:pt x="122326" y="0"/>
                </a:lnTo>
                <a:lnTo>
                  <a:pt x="122326" y="21600"/>
                </a:lnTo>
                <a:lnTo>
                  <a:pt x="0" y="21600"/>
                </a:lnTo>
                <a:close/>
              </a:path>
              <a:path fill="lightenLess" w="122326" h="21600">
                <a:moveTo>
                  <a:pt x="0" y="0"/>
                </a:moveTo>
                <a:lnTo>
                  <a:pt x="122326" y="0"/>
                </a:lnTo>
                <a:lnTo>
                  <a:pt x="120926" y="1400"/>
                </a:lnTo>
                <a:lnTo>
                  <a:pt x="1400" y="1400"/>
                </a:lnTo>
                <a:close/>
              </a:path>
              <a:path fill="darken" w="122326" h="21600">
                <a:moveTo>
                  <a:pt x="122326" y="0"/>
                </a:moveTo>
                <a:lnTo>
                  <a:pt x="122326" y="21600"/>
                </a:lnTo>
                <a:lnTo>
                  <a:pt x="120926" y="20200"/>
                </a:lnTo>
                <a:lnTo>
                  <a:pt x="120926" y="1400"/>
                </a:lnTo>
                <a:close/>
              </a:path>
              <a:path fill="darkenLess" w="122326" h="21600">
                <a:moveTo>
                  <a:pt x="1223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26" y="20200"/>
                </a:lnTo>
                <a:close/>
              </a:path>
              <a:path fill="lighten" w="1223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9000"/>
                            </p:stCondLst>
                            <p:childTnLst>
                              <p:par>
                                <p:cTn id="2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447920" y="3581280"/>
            <a:ext cx="7467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à utiliser la relation de Pythagore!!!</a:t>
            </a:r>
            <a:endParaRPr b="0" lang="en-US" sz="2400" spc="1" strike="noStrike">
              <a:ln w="9360">
                <a:solidFill>
                  <a:srgbClr val="ff99cc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09480" y="243828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latin typeface="Marker Felt"/>
              </a:rPr>
              <a:t>Tu es maintenant plus habile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latin typeface="Marker Felt"/>
              <a:ea typeface="Marker Felt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962520" y="4753080"/>
            <a:ext cx="5181480" cy="23349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533520" y="4648320"/>
            <a:ext cx="2133360" cy="20350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1752480" y="762120"/>
            <a:ext cx="5334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halkboard"/>
              </a:rPr>
              <a:t>Bravo!!!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halkboard"/>
              <a:ea typeface="Chalkboard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7162920" y="152280"/>
            <a:ext cx="1981080" cy="144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895480" y="6188040"/>
            <a:ext cx="449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7391520" y="4491000"/>
            <a:ext cx="0" cy="169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192720" y="4491000"/>
            <a:ext cx="119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192720" y="398772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92720" y="3987720"/>
            <a:ext cx="898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7091280" y="2590920"/>
            <a:ext cx="0" cy="139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892560" y="259092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92920" y="2590920"/>
            <a:ext cx="0" cy="60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4038840" cy="3067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762120" y="838080"/>
            <a:ext cx="33526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andwriting - Dakota"/>
              </a:rPr>
              <a:t>Se rendre au grand chêne. De là, parcourir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Handwriting - Dakota"/>
              </a:rPr>
              <a:t>45 m vers l’est</a:t>
            </a:r>
            <a:r>
              <a:rPr b="0" lang="fr-FR" sz="1600" spc="-1" strike="noStrike">
                <a:solidFill>
                  <a:srgbClr val="000000"/>
                </a:solidFill>
                <a:latin typeface="Handwriting - Dakota"/>
              </a:rPr>
              <a:t>. Ensuite, marcher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Handwriting - Dakota"/>
              </a:rPr>
              <a:t>17 m vers le nord</a:t>
            </a:r>
            <a:r>
              <a:rPr b="0" lang="fr-FR" sz="1600" spc="-1" strike="noStrike">
                <a:solidFill>
                  <a:srgbClr val="000000"/>
                </a:solidFill>
                <a:latin typeface="Handwriting - Dakota"/>
              </a:rPr>
              <a:t>, puis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Handwriting - Dakota"/>
              </a:rPr>
              <a:t>12 m vers l’ouest</a:t>
            </a:r>
            <a:r>
              <a:rPr b="0" lang="fr-FR" sz="1600" spc="-1" strike="noStrike">
                <a:solidFill>
                  <a:srgbClr val="000000"/>
                </a:solidFill>
                <a:latin typeface="Handwriting - Dakota"/>
              </a:rPr>
              <a:t> et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Handwriting - Dakota"/>
              </a:rPr>
              <a:t>5 m vers le nord</a:t>
            </a:r>
            <a:r>
              <a:rPr b="0" lang="fr-FR" sz="1600" spc="-1" strike="noStrike">
                <a:solidFill>
                  <a:srgbClr val="000000"/>
                </a:solidFill>
                <a:latin typeface="Handwriting - Dakota"/>
              </a:rPr>
              <a:t>. Par la suite, parcourir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Handwriting - Dakota"/>
              </a:rPr>
              <a:t>9 m vers l’est</a:t>
            </a:r>
            <a:r>
              <a:rPr b="0" lang="fr-FR" sz="1600" spc="-1" strike="noStrike">
                <a:solidFill>
                  <a:srgbClr val="000000"/>
                </a:solidFill>
                <a:latin typeface="Handwriting - Dakota"/>
              </a:rPr>
              <a:t> et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Handwriting - Dakota"/>
              </a:rPr>
              <a:t>14 m vers le nord</a:t>
            </a:r>
            <a:r>
              <a:rPr b="0" lang="fr-FR" sz="1600" spc="-1" strike="noStrike">
                <a:solidFill>
                  <a:srgbClr val="000000"/>
                </a:solidFill>
                <a:latin typeface="Handwriting - Dakota"/>
              </a:rPr>
              <a:t>. En fin,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Handwriting - Dakota"/>
              </a:rPr>
              <a:t>marcher 2 m vers l’ouest</a:t>
            </a:r>
            <a:r>
              <a:rPr b="0" lang="fr-FR" sz="1600" spc="-1" strike="noStrike">
                <a:solidFill>
                  <a:srgbClr val="000000"/>
                </a:solidFill>
                <a:latin typeface="Handwriting - Dakota"/>
              </a:rPr>
              <a:t> et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Handwriting - Dakota"/>
              </a:rPr>
              <a:t>6 m vers le sud</a:t>
            </a:r>
            <a:r>
              <a:rPr b="0" lang="fr-FR" sz="1600" spc="-1" strike="noStrike">
                <a:solidFill>
                  <a:srgbClr val="000000"/>
                </a:solidFill>
                <a:latin typeface="Handwriting - Dakota"/>
              </a:rPr>
              <a:t>. C’est à cet endroit que le trésor se trou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2209680" y="5486400"/>
            <a:ext cx="671760" cy="10573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800600" y="617220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  <a:ea typeface="ＭＳ Ｐゴシック"/>
              </a:rPr>
              <a:t>4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_x0010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518148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  <a:ea typeface="ＭＳ Ｐゴシック"/>
              </a:rPr>
              <a:t>17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77120" y="411480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  <a:ea typeface="ＭＳ Ｐゴシック"/>
              </a:rPr>
              <a:t>1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638680" y="4114800"/>
            <a:ext cx="114300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andwriting - Dakota"/>
                <a:ea typeface="ＭＳ Ｐゴシック"/>
              </a:rPr>
              <a:t>5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24480" y="3657600"/>
            <a:ext cx="11430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  <a:ea typeface="ＭＳ Ｐゴシック"/>
              </a:rPr>
              <a:t>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10280" y="304812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  <a:ea typeface="ＭＳ Ｐゴシック"/>
              </a:rPr>
              <a:t>1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705720" y="2286000"/>
            <a:ext cx="114300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andwriting - Dakota"/>
                <a:ea typeface="ＭＳ Ｐゴシック"/>
              </a:rPr>
              <a:t>2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248520" y="2666880"/>
            <a:ext cx="11430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  <a:ea typeface="ＭＳ Ｐゴシック"/>
              </a:rPr>
              <a:t>6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46880" y="23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6553080" y="3200400"/>
            <a:ext cx="457200" cy="4492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52280" y="3733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Voici donc la distance en ligne droite du grand chêne au tréso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895480" y="3190680"/>
            <a:ext cx="3997440" cy="29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815328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8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5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3000"/>
                            </p:stCondLst>
                            <p:childTnLst>
                              <p:par>
                                <p:cTn id="36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3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895480" y="6188040"/>
            <a:ext cx="449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391520" y="4495680"/>
            <a:ext cx="0" cy="169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192720" y="4491000"/>
            <a:ext cx="119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192720" y="398772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92720" y="3987720"/>
            <a:ext cx="898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7091280" y="2590920"/>
            <a:ext cx="0" cy="139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892560" y="259092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892920" y="2590920"/>
            <a:ext cx="0" cy="60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2209680" y="5486400"/>
            <a:ext cx="671760" cy="10573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4800600" y="617220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  <a:ea typeface="ＭＳ Ｐゴシック"/>
              </a:rPr>
              <a:t>4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_x0010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315200" y="518148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  <a:ea typeface="ＭＳ Ｐゴシック"/>
              </a:rPr>
              <a:t>17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77120" y="411480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  <a:ea typeface="ＭＳ Ｐゴシック"/>
              </a:rPr>
              <a:t>1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8680" y="4114800"/>
            <a:ext cx="114300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andwriting - Dakota"/>
                <a:ea typeface="ＭＳ Ｐゴシック"/>
              </a:rPr>
              <a:t>5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324480" y="3657600"/>
            <a:ext cx="11430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  <a:ea typeface="ＭＳ Ｐゴシック"/>
              </a:rPr>
              <a:t>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10280" y="304812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  <a:ea typeface="ＭＳ Ｐゴシック"/>
              </a:rPr>
              <a:t>1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705720" y="2286000"/>
            <a:ext cx="114300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andwriting - Dakota"/>
                <a:ea typeface="ＭＳ Ｐゴシック"/>
              </a:rPr>
              <a:t>2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248520" y="2666880"/>
            <a:ext cx="11430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  <a:ea typeface="ＭＳ Ｐゴシック"/>
              </a:rPr>
              <a:t>6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46880" y="23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6553080" y="3200400"/>
            <a:ext cx="457200" cy="4492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flipV="1">
            <a:off x="2895480" y="3190680"/>
            <a:ext cx="3997440" cy="29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304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Étapes de la résolution du problè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838080"/>
            <a:ext cx="5638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Étape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Identifier le triangle rectangle permettant de trouver la distance en ligne droite du grand chêne au tré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6172200"/>
            <a:ext cx="3962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858000" y="3200400"/>
            <a:ext cx="0" cy="2992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2895480" y="3225600"/>
            <a:ext cx="3962520" cy="29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1828800"/>
            <a:ext cx="5257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Étape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Trouver les mesures de la base et de la hauteur du nouveau tri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5791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05520" y="5715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191120" y="5791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-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495680" y="5791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+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24280" y="5791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-2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54864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La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467480" y="4038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La hau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4582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3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315200" y="4343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543800" y="4343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+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772400" y="43434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+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153280" y="43434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-6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3794"/>
                </a:moveTo>
                <a:lnTo>
                  <a:pt x="24266" y="10800"/>
                </a:lnTo>
                <a:lnTo>
                  <a:pt x="10253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8000"/>
                            </p:stCondLst>
                            <p:childTnLst>
                              <p:par>
                                <p:cTn id="3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3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3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6" dur="2000" fill="hold"/>
                                        <p:tgtEl>
                                          <p:spTgt spid="3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427" dur="1" fill="hold">
                                    <p:stCondLst>
                                      <p:cond evt="end">
                                        <p:tn val="425"/>
                                      </p:cond>
                                    </p:stCondLst>
                                  </p:cTn>
                                  <p:tgtEl>
                                    <p:spTgt spid="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4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3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0"/>
                            </p:stCondLst>
                            <p:childTnLst>
                              <p:par>
                                <p:cTn id="4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4" dur="2000" fill="hold"/>
                                        <p:tgtEl>
                                          <p:spTgt spid="3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435" dur="1" fill="hold">
                                    <p:stCondLst>
                                      <p:cond evt="end">
                                        <p:tn val="433"/>
                                      </p:cond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7000"/>
                            </p:stCondLst>
                            <p:childTnLst>
                              <p:par>
                                <p:cTn id="4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3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0"/>
                            </p:stCondLst>
                            <p:childTnLst>
                              <p:par>
                                <p:cTn id="4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2" dur="2000" fill="hold"/>
                                        <p:tgtEl>
                                          <p:spTgt spid="3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evt="end">
                                        <p:tn val="441"/>
                                      </p:cond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2000"/>
                            </p:stCondLst>
                            <p:childTnLst>
                              <p:par>
                                <p:cTn id="4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3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5000"/>
                            </p:stCondLst>
                            <p:childTnLst>
                              <p:par>
                                <p:cTn id="4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0" dur="2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evt="end">
                                        <p:tn val="449"/>
                                      </p:cond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7000"/>
                            </p:stCondLst>
                            <p:childTnLst>
                              <p:par>
                                <p:cTn id="4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3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0"/>
                            </p:stCondLst>
                            <p:childTnLst>
                              <p:par>
                                <p:cTn id="4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5000"/>
                            </p:stCondLst>
                            <p:childTnLst>
                              <p:par>
                                <p:cTn id="4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6000"/>
                            </p:stCondLst>
                            <p:childTnLst>
                              <p:par>
                                <p:cTn id="4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3" dur="2000" fill="hold"/>
                                        <p:tgtEl>
                                          <p:spTgt spid="3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evt="end">
                                        <p:tn val="472"/>
                                      </p:cond>
                                    </p:stCondLst>
                                  </p:cTn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8000"/>
                            </p:stCondLst>
                            <p:childTnLst>
                              <p:par>
                                <p:cTn id="4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3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1000"/>
                            </p:stCondLst>
                            <p:childTnLst>
                              <p:par>
                                <p:cTn id="4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1" dur="2000" fill="hold"/>
                                        <p:tgtEl>
                                          <p:spTgt spid="3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482" dur="1" fill="hold">
                                    <p:stCondLst>
                                      <p:cond evt="end">
                                        <p:tn val="480"/>
                                      </p:cond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3000"/>
                            </p:stCondLst>
                            <p:childTnLst>
                              <p:par>
                                <p:cTn id="4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3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6000"/>
                            </p:stCondLst>
                            <p:childTnLst>
                              <p:par>
                                <p:cTn id="4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9" dur="2000" fill="hold"/>
                                        <p:tgtEl>
                                          <p:spTgt spid="3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evt="end">
                                        <p:tn val="488"/>
                                      </p:cond>
                                    </p:stCondLst>
                                  </p:cTn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8000"/>
                            </p:stCondLst>
                            <p:childTnLst>
                              <p:par>
                                <p:cTn id="4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1000"/>
                            </p:stCondLst>
                            <p:childTnLst>
                              <p:par>
                                <p:cTn id="4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7" dur="2000" fill="hold"/>
                                        <p:tgtEl>
                                          <p:spTgt spid="3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evt="end">
                                        <p:tn val="496"/>
                                      </p:cond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3000"/>
                            </p:stCondLst>
                            <p:childTnLst>
                              <p:par>
                                <p:cTn id="5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6000"/>
                            </p:stCondLst>
                            <p:childTnLst>
                              <p:par>
                                <p:cTn id="5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0" fill="hold"/>
                                        <p:tgtEl>
                                          <p:spTgt spid="3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2209680" y="5715000"/>
            <a:ext cx="671760" cy="1057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546880" y="23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553080" y="3200400"/>
            <a:ext cx="457200" cy="4492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28600" y="228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Étapes de la résolution du problè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762120"/>
            <a:ext cx="5638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Étape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Identifier le triangle rectangle permettant de trouver la distance en ligne droite du grand chêne au tré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895480" y="6172200"/>
            <a:ext cx="3962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6858000" y="3200400"/>
            <a:ext cx="0" cy="2992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895480" y="3225600"/>
            <a:ext cx="3962520" cy="29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" y="1752480"/>
            <a:ext cx="5257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Étape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Trouver les mesures de la base et de la hauteur du nouveau tri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419720" y="617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2743200"/>
            <a:ext cx="52578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Étape 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À l’aide de la relation de Pythagore, trouver la mesure de l'hypoténuse, soit la distance en ligne droite du grand chêne au tré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4419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4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mesure de l’hypoténus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52280" y="4876920"/>
                <a:ext cx="160020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00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1752480" y="49212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ure de l’hypotén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38080" y="53341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ure de l’hypotén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04920" y="5318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0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095880" y="1371600"/>
            <a:ext cx="281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La distance en ligne droite du grand chêne au trésor est donc de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halkboard"/>
                <a:ea typeface="ＭＳ Ｐゴシック"/>
              </a:rPr>
              <a:t>50 mètres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943600" y="838080"/>
            <a:ext cx="609480" cy="762120"/>
          </a:xfrm>
          <a:prstGeom prst="uturnArrow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1600200" y="3962520"/>
                <a:ext cx="1468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304920" y="3962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Rapp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14800" y="4191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924680" y="617220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20049" y="3837"/>
                </a:moveTo>
                <a:lnTo>
                  <a:pt x="22625" y="6448"/>
                </a:lnTo>
                <a:lnTo>
                  <a:pt x="22625" y="4707"/>
                </a:lnTo>
                <a:lnTo>
                  <a:pt x="24401" y="4707"/>
                </a:lnTo>
                <a:lnTo>
                  <a:pt x="24401" y="8224"/>
                </a:lnTo>
                <a:lnTo>
                  <a:pt x="27012" y="10800"/>
                </a:lnTo>
                <a:lnTo>
                  <a:pt x="25358" y="10800"/>
                </a:lnTo>
                <a:lnTo>
                  <a:pt x="25358" y="17989"/>
                </a:lnTo>
                <a:lnTo>
                  <a:pt x="14740" y="17989"/>
                </a:lnTo>
                <a:lnTo>
                  <a:pt x="14740" y="10800"/>
                </a:lnTo>
                <a:lnTo>
                  <a:pt x="13086" y="10800"/>
                </a:lnTo>
                <a:close/>
              </a:path>
              <a:path fill="darkenLess" w="40098" h="21600">
                <a:moveTo>
                  <a:pt x="22625" y="6448"/>
                </a:moveTo>
                <a:lnTo>
                  <a:pt x="22625" y="4707"/>
                </a:lnTo>
                <a:lnTo>
                  <a:pt x="24401" y="4707"/>
                </a:lnTo>
                <a:lnTo>
                  <a:pt x="24401" y="8224"/>
                </a:lnTo>
                <a:close/>
              </a:path>
              <a:path fill="darkenLess" w="40098" h="21600">
                <a:moveTo>
                  <a:pt x="19126" y="14299"/>
                </a:moveTo>
                <a:lnTo>
                  <a:pt x="20971" y="14299"/>
                </a:lnTo>
                <a:lnTo>
                  <a:pt x="20971" y="17989"/>
                </a:lnTo>
                <a:lnTo>
                  <a:pt x="25358" y="17989"/>
                </a:lnTo>
                <a:lnTo>
                  <a:pt x="25358" y="10800"/>
                </a:lnTo>
                <a:lnTo>
                  <a:pt x="14740" y="10800"/>
                </a:lnTo>
                <a:lnTo>
                  <a:pt x="14740" y="17989"/>
                </a:lnTo>
                <a:lnTo>
                  <a:pt x="19126" y="17989"/>
                </a:lnTo>
                <a:close/>
              </a:path>
            </a:pathLst>
          </a:custGeom>
          <a:solidFill>
            <a:srgbClr val="9090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1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2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4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6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8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5000"/>
                            </p:stCondLst>
                            <p:childTnLst>
                              <p:par>
                                <p:cTn id="5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2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3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5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7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9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00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0000"/>
                            </p:stCondLst>
                            <p:childTnLst>
                              <p:par>
                                <p:cTn id="6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1" dur="5000" fill="hold"/>
                                        <p:tgtEl>
                                          <p:spTgt spid="4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6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8000"/>
                            </p:stCondLst>
                            <p:childTnLst>
                              <p:par>
                                <p:cTn id="6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00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Le défi de Domi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3809880" y="152388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5867280" y="274320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47712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95880" y="2971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152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315200" y="4114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9608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95880" y="4343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772400" y="3505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477120" y="373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147680" cy="7621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7010280" y="4952880"/>
            <a:ext cx="685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071f"/>
                </a:solidFill>
                <a:latin typeface="Handwriting - Dakota"/>
              </a:rPr>
              <a:t>12</a:t>
            </a:r>
            <a:r>
              <a:rPr b="0" lang="en-US" sz="800" spc="-1" strike="noStrike">
                <a:solidFill>
                  <a:srgbClr val="fb071f"/>
                </a:solidFill>
                <a:latin typeface="Handwriting - Dakota"/>
              </a:rPr>
              <a:t> </a:t>
            </a:r>
            <a:r>
              <a:rPr b="0" lang="en-US" sz="1200" spc="-1" strike="noStrike">
                <a:solidFill>
                  <a:srgbClr val="fb071f"/>
                </a:solidFill>
                <a:latin typeface="Handwriting - Dakota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943600" y="4648320"/>
            <a:ext cx="685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071f"/>
                </a:solidFill>
                <a:latin typeface="Handwriting - Dakota"/>
              </a:rPr>
              <a:t>10</a:t>
            </a:r>
            <a:r>
              <a:rPr b="0" lang="en-US" sz="1200" spc="-1" strike="noStrike">
                <a:solidFill>
                  <a:srgbClr val="fb071f"/>
                </a:solidFill>
                <a:latin typeface="Handwriting - Dakota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7724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071f"/>
                </a:solidFill>
                <a:latin typeface="Handwriting - Dakota"/>
              </a:rPr>
              <a:t>24</a:t>
            </a:r>
            <a:r>
              <a:rPr b="0" lang="en-US" sz="800" spc="-1" strike="noStrike">
                <a:solidFill>
                  <a:srgbClr val="fb071f"/>
                </a:solidFill>
                <a:latin typeface="Handwriting - Dakota"/>
              </a:rPr>
              <a:t> </a:t>
            </a:r>
            <a:r>
              <a:rPr b="0" lang="en-US" sz="1200" spc="-1" strike="noStrike">
                <a:solidFill>
                  <a:srgbClr val="fb071f"/>
                </a:solidFill>
                <a:latin typeface="Handwriting - Dakota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2362320" cy="15796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304920" y="4800600"/>
            <a:ext cx="1582560" cy="17226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0" y="14479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andwriting - Dakota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Handwriting - Dakota"/>
              </a:rPr>
              <a:t>Afin de résoudre le problème, tu dois utiliser la relation de Pythagore à deux reprise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19051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1- À partir de triangle rectangle ABC. tu peux trouver              la mesure de AC en utilisant la relation de Pythag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286000" y="2895480"/>
                <a:ext cx="15238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886200" y="3014640"/>
                <a:ext cx="7873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0" name=""/>
          <p:cNvSpPr/>
          <p:nvPr/>
        </p:nvSpPr>
        <p:spPr>
          <a:xfrm>
            <a:off x="228600" y="3886200"/>
            <a:ext cx="5791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2- Tu peux maintenant trouver la mesure de la diagonale du prisme rectangulaire en utilisant à nouveau la relation de Pythagore et à partir du triangle rectangle AC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752480" y="5943600"/>
                <a:ext cx="18288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733920" y="5867280"/>
                <a:ext cx="1523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>
            <a:off x="4800600" y="2971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259600" y="5859360"/>
            <a:ext cx="68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696080" y="601992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95" h="21600">
                <a:moveTo>
                  <a:pt x="19197" y="3837"/>
                </a:moveTo>
                <a:lnTo>
                  <a:pt x="21774" y="6448"/>
                </a:lnTo>
                <a:lnTo>
                  <a:pt x="21774" y="4707"/>
                </a:lnTo>
                <a:lnTo>
                  <a:pt x="23549" y="4707"/>
                </a:lnTo>
                <a:lnTo>
                  <a:pt x="23549" y="8224"/>
                </a:lnTo>
                <a:lnTo>
                  <a:pt x="26160" y="10800"/>
                </a:lnTo>
                <a:lnTo>
                  <a:pt x="24507" y="10800"/>
                </a:lnTo>
                <a:lnTo>
                  <a:pt x="24507" y="17989"/>
                </a:lnTo>
                <a:lnTo>
                  <a:pt x="13888" y="17989"/>
                </a:lnTo>
                <a:lnTo>
                  <a:pt x="13888" y="10800"/>
                </a:lnTo>
                <a:lnTo>
                  <a:pt x="12235" y="10800"/>
                </a:lnTo>
                <a:close/>
              </a:path>
              <a:path fill="darkenLess" w="38395" h="21600">
                <a:moveTo>
                  <a:pt x="21774" y="6448"/>
                </a:moveTo>
                <a:lnTo>
                  <a:pt x="21774" y="4707"/>
                </a:lnTo>
                <a:lnTo>
                  <a:pt x="23549" y="4707"/>
                </a:lnTo>
                <a:lnTo>
                  <a:pt x="23549" y="8224"/>
                </a:lnTo>
                <a:close/>
              </a:path>
              <a:path fill="darkenLess" w="38395" h="21600">
                <a:moveTo>
                  <a:pt x="18275" y="14299"/>
                </a:moveTo>
                <a:lnTo>
                  <a:pt x="20120" y="14299"/>
                </a:lnTo>
                <a:lnTo>
                  <a:pt x="20120" y="17989"/>
                </a:lnTo>
                <a:lnTo>
                  <a:pt x="24507" y="17989"/>
                </a:lnTo>
                <a:lnTo>
                  <a:pt x="24507" y="10800"/>
                </a:lnTo>
                <a:lnTo>
                  <a:pt x="13888" y="10800"/>
                </a:lnTo>
                <a:lnTo>
                  <a:pt x="13888" y="17989"/>
                </a:lnTo>
                <a:lnTo>
                  <a:pt x="18275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9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3" dur="3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3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3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2200"/>
                            </p:stCondLst>
                            <p:childTnLst>
                              <p:par>
                                <p:cTn id="6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5200"/>
                            </p:stCondLst>
                            <p:childTnLst>
                              <p:par>
                                <p:cTn id="6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7200"/>
                            </p:stCondLst>
                            <p:childTnLst>
                              <p:par>
                                <p:cTn id="6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3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3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200"/>
                            </p:stCondLst>
                            <p:childTnLst>
                              <p:par>
                                <p:cTn id="6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24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Marker Felt"/>
              </a:rPr>
              <a:t>Regarde bien la démonstration suivante…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2971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33526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ppuie sur le bout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1270080" cy="1509840"/>
          </a:xfrm>
          <a:prstGeom prst="rect">
            <a:avLst/>
          </a:prstGeom>
          <a:ln w="0">
            <a:noFill/>
          </a:ln>
        </p:spPr>
      </p:pic>
      <p:sp>
        <p:nvSpPr>
          <p:cNvPr id="225" name="">
            <a:hlinkClick r:id="rId2"/>
          </p:cNvPr>
          <p:cNvSpPr/>
          <p:nvPr/>
        </p:nvSpPr>
        <p:spPr>
          <a:xfrm>
            <a:off x="5562720" y="342900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470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7924680" y="6324480"/>
            <a:ext cx="990720" cy="304920"/>
          </a:xfrm>
          <a:custGeom>
            <a:avLst/>
            <a:gdLst>
              <a:gd name="textAreaLeft" fmla="*/ 19440 w 990720"/>
              <a:gd name="textAreaRight" fmla="*/ 971280 w 99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0124" h="21600">
                <a:moveTo>
                  <a:pt x="0" y="0"/>
                </a:moveTo>
                <a:lnTo>
                  <a:pt x="70124" y="0"/>
                </a:lnTo>
                <a:lnTo>
                  <a:pt x="70124" y="21600"/>
                </a:lnTo>
                <a:lnTo>
                  <a:pt x="0" y="21600"/>
                </a:lnTo>
                <a:close/>
              </a:path>
              <a:path fill="lightenLess" w="70124" h="21600">
                <a:moveTo>
                  <a:pt x="0" y="0"/>
                </a:moveTo>
                <a:lnTo>
                  <a:pt x="70124" y="0"/>
                </a:lnTo>
                <a:lnTo>
                  <a:pt x="68724" y="1400"/>
                </a:lnTo>
                <a:lnTo>
                  <a:pt x="1400" y="1400"/>
                </a:lnTo>
                <a:close/>
              </a:path>
              <a:path fill="darken" w="70124" h="21600">
                <a:moveTo>
                  <a:pt x="70124" y="0"/>
                </a:moveTo>
                <a:lnTo>
                  <a:pt x="70124" y="21600"/>
                </a:lnTo>
                <a:lnTo>
                  <a:pt x="68724" y="20200"/>
                </a:lnTo>
                <a:lnTo>
                  <a:pt x="68724" y="1400"/>
                </a:lnTo>
                <a:close/>
              </a:path>
              <a:path fill="darkenLess" w="70124" h="21600">
                <a:moveTo>
                  <a:pt x="70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24" y="20200"/>
                </a:lnTo>
                <a:close/>
              </a:path>
              <a:path fill="lighten" w="70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124" h="21600">
                <a:moveTo>
                  <a:pt x="28055" y="3794"/>
                </a:moveTo>
                <a:lnTo>
                  <a:pt x="42068" y="10800"/>
                </a:lnTo>
                <a:lnTo>
                  <a:pt x="28055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848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200" spc="-1" strike="noStrike">
                <a:solidFill>
                  <a:srgbClr val="000000"/>
                </a:solidFill>
                <a:latin typeface="Marker Felt"/>
              </a:rPr>
              <a:t>Peut-être que manipuler te convaincra davantage…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34290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ppuie sur le bout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1"/>
          </p:cNvPr>
          <p:cNvSpPr/>
          <p:nvPr/>
        </p:nvSpPr>
        <p:spPr>
          <a:xfrm>
            <a:off x="5562720" y="35053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d3f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1506600" cy="160020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7924680" y="6324480"/>
            <a:ext cx="990720" cy="304920"/>
          </a:xfrm>
          <a:custGeom>
            <a:avLst/>
            <a:gdLst>
              <a:gd name="textAreaLeft" fmla="*/ 19440 w 990720"/>
              <a:gd name="textAreaRight" fmla="*/ 971280 w 99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0124" h="21600">
                <a:moveTo>
                  <a:pt x="0" y="0"/>
                </a:moveTo>
                <a:lnTo>
                  <a:pt x="70124" y="0"/>
                </a:lnTo>
                <a:lnTo>
                  <a:pt x="70124" y="21600"/>
                </a:lnTo>
                <a:lnTo>
                  <a:pt x="0" y="21600"/>
                </a:lnTo>
                <a:close/>
              </a:path>
              <a:path fill="lightenLess" w="70124" h="21600">
                <a:moveTo>
                  <a:pt x="0" y="0"/>
                </a:moveTo>
                <a:lnTo>
                  <a:pt x="70124" y="0"/>
                </a:lnTo>
                <a:lnTo>
                  <a:pt x="68724" y="1400"/>
                </a:lnTo>
                <a:lnTo>
                  <a:pt x="1400" y="1400"/>
                </a:lnTo>
                <a:close/>
              </a:path>
              <a:path fill="darken" w="70124" h="21600">
                <a:moveTo>
                  <a:pt x="70124" y="0"/>
                </a:moveTo>
                <a:lnTo>
                  <a:pt x="70124" y="21600"/>
                </a:lnTo>
                <a:lnTo>
                  <a:pt x="68724" y="20200"/>
                </a:lnTo>
                <a:lnTo>
                  <a:pt x="68724" y="1400"/>
                </a:lnTo>
                <a:close/>
              </a:path>
              <a:path fill="darkenLess" w="70124" h="21600">
                <a:moveTo>
                  <a:pt x="70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24" y="20200"/>
                </a:lnTo>
                <a:close/>
              </a:path>
              <a:path fill="lighten" w="70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124" h="21600">
                <a:moveTo>
                  <a:pt x="28055" y="3794"/>
                </a:moveTo>
                <a:lnTo>
                  <a:pt x="42068" y="10800"/>
                </a:lnTo>
                <a:lnTo>
                  <a:pt x="28055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Utilisons l’algèbre cette fois-ci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943600" y="1447920"/>
            <a:ext cx="2778120" cy="28191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04920" y="19810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halkboard"/>
              </a:rPr>
              <a:t>Il existe deux façons d’exprimer l’aire du grand carr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27432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1- Aire du grand carré = côté x cô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66880" y="3048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= (a+b) x (a+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411480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2- Aire du grand carré = aire du petit carré + 4 fois l’aire du triangle rect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43200" y="44956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= c x c + 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886200" y="4419720"/>
                <a:ext cx="3967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2666880" y="3352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= 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halkboard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 + 2ab + b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halkboard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49528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= c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halkboard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 + 2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556272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Donc, 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halkboard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 + 2ab + b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halkboard"/>
              </a:rPr>
              <a:t>2  </a:t>
            </a: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= c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halkboard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 + 2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563868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563868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5943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060f"/>
                </a:solidFill>
                <a:latin typeface="Chalkboard"/>
              </a:rPr>
              <a:t>a</a:t>
            </a:r>
            <a:r>
              <a:rPr b="0" lang="fr-FR" sz="1600" spc="-1" strike="noStrike" baseline="30000">
                <a:solidFill>
                  <a:srgbClr val="c0060f"/>
                </a:solidFill>
                <a:latin typeface="Chalkboard"/>
              </a:rPr>
              <a:t>2</a:t>
            </a:r>
            <a:r>
              <a:rPr b="0" lang="fr-FR" sz="1600" spc="-1" strike="noStrike">
                <a:solidFill>
                  <a:srgbClr val="c0060f"/>
                </a:solidFill>
                <a:latin typeface="Chalkboard"/>
              </a:rPr>
              <a:t> + b</a:t>
            </a:r>
            <a:r>
              <a:rPr b="0" lang="fr-FR" sz="1600" spc="-1" strike="noStrike" baseline="30000">
                <a:solidFill>
                  <a:srgbClr val="c0060f"/>
                </a:solidFill>
                <a:latin typeface="Chalkboard"/>
              </a:rPr>
              <a:t>2  </a:t>
            </a:r>
            <a:r>
              <a:rPr b="0" lang="fr-FR" sz="1600" spc="-1" strike="noStrike">
                <a:solidFill>
                  <a:srgbClr val="c0060f"/>
                </a:solidFill>
                <a:latin typeface="Chalkboard"/>
              </a:rPr>
              <a:t>= c</a:t>
            </a:r>
            <a:r>
              <a:rPr b="0" lang="fr-FR" sz="1600" spc="-1" strike="noStrike" baseline="30000">
                <a:solidFill>
                  <a:srgbClr val="c0060f"/>
                </a:solidFill>
                <a:latin typeface="Chalkboard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267080" y="2819520"/>
            <a:ext cx="1067040" cy="730080"/>
          </a:xfrm>
          <a:prstGeom prst="rect">
            <a:avLst/>
          </a:prstGeom>
          <a:ln w="0">
            <a:noFill/>
          </a:ln>
        </p:spPr>
      </p:pic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7924680" y="6324480"/>
            <a:ext cx="990720" cy="304920"/>
          </a:xfrm>
          <a:custGeom>
            <a:avLst/>
            <a:gdLst>
              <a:gd name="textAreaLeft" fmla="*/ 19440 w 990720"/>
              <a:gd name="textAreaRight" fmla="*/ 971280 w 99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0124" h="21600">
                <a:moveTo>
                  <a:pt x="0" y="0"/>
                </a:moveTo>
                <a:lnTo>
                  <a:pt x="70124" y="0"/>
                </a:lnTo>
                <a:lnTo>
                  <a:pt x="70124" y="21600"/>
                </a:lnTo>
                <a:lnTo>
                  <a:pt x="0" y="21600"/>
                </a:lnTo>
                <a:close/>
              </a:path>
              <a:path fill="lightenLess" w="70124" h="21600">
                <a:moveTo>
                  <a:pt x="0" y="0"/>
                </a:moveTo>
                <a:lnTo>
                  <a:pt x="70124" y="0"/>
                </a:lnTo>
                <a:lnTo>
                  <a:pt x="68724" y="1400"/>
                </a:lnTo>
                <a:lnTo>
                  <a:pt x="1400" y="1400"/>
                </a:lnTo>
                <a:close/>
              </a:path>
              <a:path fill="darken" w="70124" h="21600">
                <a:moveTo>
                  <a:pt x="70124" y="0"/>
                </a:moveTo>
                <a:lnTo>
                  <a:pt x="70124" y="21600"/>
                </a:lnTo>
                <a:lnTo>
                  <a:pt x="68724" y="20200"/>
                </a:lnTo>
                <a:lnTo>
                  <a:pt x="68724" y="1400"/>
                </a:lnTo>
                <a:close/>
              </a:path>
              <a:path fill="darkenLess" w="70124" h="21600">
                <a:moveTo>
                  <a:pt x="70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24" y="20200"/>
                </a:lnTo>
                <a:close/>
              </a:path>
              <a:path fill="lighten" w="70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124" h="21600">
                <a:moveTo>
                  <a:pt x="28055" y="3794"/>
                </a:moveTo>
                <a:lnTo>
                  <a:pt x="42068" y="10800"/>
                </a:lnTo>
                <a:lnTo>
                  <a:pt x="28055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3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3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8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8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19520" y="6091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Voyage à Ban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halkboard"/>
              </a:rPr>
              <a:t>Lors d’un voyage à Banff, une ville très touristique en Alberta, Mélissa fait la rencontre de Phong, l’ingénieur responsable de l’installation d’un nouveau téléférique de la station « Sunshine Village ».  Il veut construire un téléférique qui mesure 1440 mètres et qui s’élève de 0,8 kilomètres.</a:t>
            </a: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Chalkboard"/>
              </a:rPr>
              <a:t>Phong se demande quelle est la </a:t>
            </a:r>
            <a:r>
              <a:rPr b="0" lang="fr-FR" sz="1400" spc="-1" strike="noStrike" u="sng">
                <a:solidFill>
                  <a:srgbClr val="000000"/>
                </a:solidFill>
                <a:uFillTx/>
                <a:latin typeface="Chalkboard"/>
              </a:rPr>
              <a:t>distance au sol</a:t>
            </a:r>
            <a:r>
              <a:rPr b="0" lang="fr-FR" sz="1400" spc="-1" strike="noStrike">
                <a:solidFill>
                  <a:srgbClr val="000000"/>
                </a:solidFill>
                <a:latin typeface="Chalkboard"/>
              </a:rPr>
              <a:t> qui sépare le point d’embarquement de l’arrivée au sommet de la montagne et il demande l’aide de Mélissa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934320" y="4952880"/>
            <a:ext cx="2062080" cy="16052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066680" y="380880"/>
            <a:ext cx="1411560" cy="12844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09480" y="4191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a) 1440 mètre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181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c) 1439 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4648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b) 1197 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2971800"/>
            <a:ext cx="8610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halkboard"/>
              </a:rPr>
              <a:t>Selon toi, quelle est la réponse donnée, arrondie au mètre près, par Mélissa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57150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andwriting - Dakota"/>
              </a:rPr>
              <a:t>d) 1198 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4267080"/>
            <a:ext cx="2666880" cy="304920"/>
          </a:xfrm>
          <a:custGeom>
            <a:avLst/>
            <a:gdLst>
              <a:gd name="textAreaLeft" fmla="*/ 19440 w 2666880"/>
              <a:gd name="textAreaRight" fmla="*/ 2647440 w 2666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88720" h="21600">
                <a:moveTo>
                  <a:pt x="0" y="0"/>
                </a:moveTo>
                <a:lnTo>
                  <a:pt x="188720" y="0"/>
                </a:lnTo>
                <a:lnTo>
                  <a:pt x="188720" y="21600"/>
                </a:lnTo>
                <a:lnTo>
                  <a:pt x="0" y="21600"/>
                </a:lnTo>
                <a:close/>
              </a:path>
              <a:path fill="lightenLess" w="188720" h="21600">
                <a:moveTo>
                  <a:pt x="0" y="0"/>
                </a:moveTo>
                <a:lnTo>
                  <a:pt x="188720" y="0"/>
                </a:lnTo>
                <a:lnTo>
                  <a:pt x="187320" y="1400"/>
                </a:lnTo>
                <a:lnTo>
                  <a:pt x="1400" y="1400"/>
                </a:lnTo>
                <a:close/>
              </a:path>
              <a:path fill="darken" w="188720" h="21600">
                <a:moveTo>
                  <a:pt x="188720" y="0"/>
                </a:moveTo>
                <a:lnTo>
                  <a:pt x="188720" y="21600"/>
                </a:lnTo>
                <a:lnTo>
                  <a:pt x="187320" y="20200"/>
                </a:lnTo>
                <a:lnTo>
                  <a:pt x="187320" y="1400"/>
                </a:lnTo>
                <a:close/>
              </a:path>
              <a:path fill="darkenLess" w="188720" h="21600">
                <a:moveTo>
                  <a:pt x="1887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320" y="20200"/>
                </a:lnTo>
                <a:close/>
              </a:path>
              <a:path fill="lighten" w="1887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257800"/>
            <a:ext cx="2666880" cy="304920"/>
          </a:xfrm>
          <a:custGeom>
            <a:avLst/>
            <a:gdLst>
              <a:gd name="textAreaLeft" fmla="*/ 19440 w 2666880"/>
              <a:gd name="textAreaRight" fmla="*/ 2647440 w 2666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88720" h="21600">
                <a:moveTo>
                  <a:pt x="0" y="0"/>
                </a:moveTo>
                <a:lnTo>
                  <a:pt x="188720" y="0"/>
                </a:lnTo>
                <a:lnTo>
                  <a:pt x="188720" y="21600"/>
                </a:lnTo>
                <a:lnTo>
                  <a:pt x="0" y="21600"/>
                </a:lnTo>
                <a:close/>
              </a:path>
              <a:path fill="lightenLess" w="188720" h="21600">
                <a:moveTo>
                  <a:pt x="0" y="0"/>
                </a:moveTo>
                <a:lnTo>
                  <a:pt x="188720" y="0"/>
                </a:lnTo>
                <a:lnTo>
                  <a:pt x="187320" y="1400"/>
                </a:lnTo>
                <a:lnTo>
                  <a:pt x="1400" y="1400"/>
                </a:lnTo>
                <a:close/>
              </a:path>
              <a:path fill="darken" w="188720" h="21600">
                <a:moveTo>
                  <a:pt x="188720" y="0"/>
                </a:moveTo>
                <a:lnTo>
                  <a:pt x="188720" y="21600"/>
                </a:lnTo>
                <a:lnTo>
                  <a:pt x="187320" y="20200"/>
                </a:lnTo>
                <a:lnTo>
                  <a:pt x="187320" y="1400"/>
                </a:lnTo>
                <a:close/>
              </a:path>
              <a:path fill="darkenLess" w="188720" h="21600">
                <a:moveTo>
                  <a:pt x="1887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320" y="20200"/>
                </a:lnTo>
                <a:close/>
              </a:path>
              <a:path fill="lighten" w="1887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5791320"/>
            <a:ext cx="2666880" cy="304560"/>
          </a:xfrm>
          <a:custGeom>
            <a:avLst/>
            <a:gdLst>
              <a:gd name="textAreaLeft" fmla="*/ 19440 w 2666880"/>
              <a:gd name="textAreaRight" fmla="*/ 2647440 w 2666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88943" h="21600">
                <a:moveTo>
                  <a:pt x="0" y="0"/>
                </a:moveTo>
                <a:lnTo>
                  <a:pt x="188943" y="0"/>
                </a:lnTo>
                <a:lnTo>
                  <a:pt x="188943" y="21600"/>
                </a:lnTo>
                <a:lnTo>
                  <a:pt x="0" y="21600"/>
                </a:lnTo>
                <a:close/>
              </a:path>
              <a:path fill="lightenLess" w="188943" h="21600">
                <a:moveTo>
                  <a:pt x="0" y="0"/>
                </a:moveTo>
                <a:lnTo>
                  <a:pt x="188943" y="0"/>
                </a:lnTo>
                <a:lnTo>
                  <a:pt x="187543" y="1400"/>
                </a:lnTo>
                <a:lnTo>
                  <a:pt x="1400" y="1400"/>
                </a:lnTo>
                <a:close/>
              </a:path>
              <a:path fill="darken" w="188943" h="21600">
                <a:moveTo>
                  <a:pt x="188943" y="0"/>
                </a:moveTo>
                <a:lnTo>
                  <a:pt x="188943" y="21600"/>
                </a:lnTo>
                <a:lnTo>
                  <a:pt x="187543" y="20200"/>
                </a:lnTo>
                <a:lnTo>
                  <a:pt x="187543" y="1400"/>
                </a:lnTo>
                <a:close/>
              </a:path>
              <a:path fill="darkenLess" w="188943" h="21600">
                <a:moveTo>
                  <a:pt x="188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543" y="20200"/>
                </a:lnTo>
                <a:close/>
              </a:path>
              <a:path fill="lighten" w="188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4648320"/>
            <a:ext cx="2666880" cy="380880"/>
          </a:xfrm>
          <a:custGeom>
            <a:avLst/>
            <a:gdLst>
              <a:gd name="textAreaLeft" fmla="*/ 24480 w 2666880"/>
              <a:gd name="textAreaRight" fmla="*/ 2642400 w 2666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51118" h="21600">
                <a:moveTo>
                  <a:pt x="0" y="0"/>
                </a:moveTo>
                <a:lnTo>
                  <a:pt x="151118" y="0"/>
                </a:lnTo>
                <a:lnTo>
                  <a:pt x="151118" y="21600"/>
                </a:lnTo>
                <a:lnTo>
                  <a:pt x="0" y="21600"/>
                </a:lnTo>
                <a:close/>
              </a:path>
              <a:path fill="lightenLess" w="151118" h="21600">
                <a:moveTo>
                  <a:pt x="0" y="0"/>
                </a:moveTo>
                <a:lnTo>
                  <a:pt x="151118" y="0"/>
                </a:lnTo>
                <a:lnTo>
                  <a:pt x="149718" y="1400"/>
                </a:lnTo>
                <a:lnTo>
                  <a:pt x="1400" y="1400"/>
                </a:lnTo>
                <a:close/>
              </a:path>
              <a:path fill="darken" w="151118" h="21600">
                <a:moveTo>
                  <a:pt x="151118" y="0"/>
                </a:moveTo>
                <a:lnTo>
                  <a:pt x="151118" y="21600"/>
                </a:lnTo>
                <a:lnTo>
                  <a:pt x="149718" y="20200"/>
                </a:lnTo>
                <a:lnTo>
                  <a:pt x="149718" y="1400"/>
                </a:lnTo>
                <a:close/>
              </a:path>
              <a:path fill="darkenLess" w="151118" h="21600">
                <a:moveTo>
                  <a:pt x="151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718" y="20200"/>
                </a:lnTo>
                <a:close/>
              </a:path>
              <a:path fill="lighten" w="151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3429000"/>
            <a:ext cx="51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Clique sur celle de ton cho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30492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andwriting - Dakota"/>
              </a:rPr>
              <a:t>Calcul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6858000" y="380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Clique ici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59436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andwriting - Dakota"/>
              </a:rPr>
              <a:t>Tu peux actionner ce bouton seulement après avoir visionner le lie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10280" y="5562720"/>
            <a:ext cx="533520" cy="380880"/>
          </a:xfrm>
          <a:custGeom>
            <a:avLst/>
            <a:gdLst>
              <a:gd name="textAreaLeft" fmla="*/ 93600 w 533520"/>
              <a:gd name="textAreaRight" fmla="*/ 386640 w 5335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79" hR="21600" stAng="10800000" swAng="5400000"/>
                <a:lnTo>
                  <a:pt x="11861" y="0"/>
                </a:lnTo>
                <a:arcTo wR="7579" hR="21600" stAng="-5400000" swAng="1054311"/>
                <a:lnTo>
                  <a:pt x="19099" y="5565"/>
                </a:lnTo>
                <a:lnTo>
                  <a:pt x="17299" y="21600"/>
                </a:lnTo>
                <a:lnTo>
                  <a:pt x="10497" y="5565"/>
                </a:lnTo>
                <a:lnTo>
                  <a:pt x="12657" y="5565"/>
                </a:lnTo>
                <a:arcTo wR="7579" hR="21600" stAng="-4345689" swAng="-700348"/>
                <a:lnTo>
                  <a:pt x="9720" y="880"/>
                </a:lnTo>
                <a:arcTo wR="7579" hR="21600" stAng="-5753963" swAng="-5046037"/>
                <a:close/>
              </a:path>
              <a:path fill="darkenLess" w="21600" h="21600">
                <a:moveTo>
                  <a:pt x="0" y="21600"/>
                </a:moveTo>
                <a:arcTo wR="7579" hR="21600" stAng="10800000" swAng="5400000"/>
                <a:lnTo>
                  <a:pt x="7579" y="0"/>
                </a:lnTo>
                <a:arcTo wR="7579" hR="21600" stAng="-5400000" swAng="353963"/>
                <a:lnTo>
                  <a:pt x="9720" y="880"/>
                </a:lnTo>
                <a:arcTo wR="7579" hR="21600" stAng="-5753963" swAng="-5046037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Marker Felt"/>
              </a:rPr>
              <a:t>Chasse au trésor 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5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halkboard"/>
              </a:rPr>
              <a:t>Lors d’une fin de semaine entre amis dans le chalet de l’oncle Vincent, on a proposé de faire une chasse au trésor. Le plan pour se rendre au trésor est le suiva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7400" y="2743200"/>
            <a:ext cx="3505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andwriting - Dakota"/>
              </a:rPr>
              <a:t>Se rendre au grand chêne. De là, parcourir 45 m vers l’est. Ensuite, marcher 17 m vers le nord, puis 12 m vers l’ouest et 5 m vers le nord. Par la suite, parcourir 9 m vers l’est et 14 m vers le nord. En fin, marcher 2 m vers l’ouest et 6 m vers le sud. C’est à cet endroit que le trésor se trou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55627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Calcule la distance la plus courte entre le grand pin et le trés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601992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andwriting - Dakota"/>
              </a:rPr>
              <a:t>Valide ta ré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1165320" cy="17748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1030320" cy="10126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1676520" y="2438280"/>
            <a:ext cx="4038480" cy="30672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543800" y="30492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andwriting - Dakota"/>
              </a:rPr>
              <a:t>Calcul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6858000" y="380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Le problème de Éloi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Éloi a remarqué que l’aire du demi-cercle </a:t>
            </a:r>
            <a:r>
              <a:rPr b="0" lang="fr-FR" sz="1600" spc="-1" strike="noStrike">
                <a:solidFill>
                  <a:srgbClr val="000000"/>
                </a:solidFill>
                <a:latin typeface="Handwriting - Dakota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, additionnée à l’aire du demi-cercle </a:t>
            </a:r>
            <a:r>
              <a:rPr b="0" lang="fr-FR" sz="1600" spc="-1" strike="noStrike">
                <a:solidFill>
                  <a:srgbClr val="000000"/>
                </a:solidFill>
                <a:latin typeface="Handwriting - Dakota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 est égale à l’aire du demi-cercle </a:t>
            </a:r>
            <a:r>
              <a:rPr b="0" lang="fr-FR" sz="1600" spc="-1" strike="noStrike">
                <a:solidFill>
                  <a:srgbClr val="000000"/>
                </a:solidFill>
                <a:latin typeface="Handwriting - Dakota"/>
              </a:rPr>
              <a:t>C</a:t>
            </a: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. Il cherche à savoir pour quelle raison est-ce que cet énoncé est vrai.  Clique sur la bonne répons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2666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andwriting - Dakota"/>
              </a:rPr>
              <a:t>a)  r</a:t>
            </a:r>
            <a:r>
              <a:rPr b="0" lang="fr-FR" sz="1400" spc="-1" strike="noStrike">
                <a:solidFill>
                  <a:srgbClr val="000000"/>
                </a:solidFill>
                <a:latin typeface="Handwriting - Dakota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Handwriting - Dakota"/>
              </a:rPr>
              <a:t> + r</a:t>
            </a:r>
            <a:r>
              <a:rPr b="0" lang="fr-FR" sz="1400" spc="-1" strike="noStrike">
                <a:solidFill>
                  <a:srgbClr val="000000"/>
                </a:solidFill>
                <a:latin typeface="Handwriting - Dakota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Handwriting - Dakota"/>
              </a:rPr>
              <a:t> = r</a:t>
            </a:r>
            <a:r>
              <a:rPr b="0" lang="fr-FR" sz="1400" spc="-1" strike="noStrike">
                <a:solidFill>
                  <a:srgbClr val="000000"/>
                </a:solidFill>
                <a:latin typeface="Handwriting - Dakota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Handwriting - Dakot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3200400"/>
            <a:ext cx="45720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 </a:t>
            </a: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Handwriting - Dakot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Handwriting - Dakot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)</a:t>
            </a:r>
            <a:r>
              <a:rPr b="0" lang="en-US" sz="2400" spc="-1" strike="noStrike" baseline="64000">
                <a:solidFill>
                  <a:srgbClr val="000000"/>
                </a:solidFill>
                <a:latin typeface="Handwriting - Dakot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 + (</a:t>
            </a:r>
            <a:r>
              <a:rPr b="0" lang="en-US" sz="2800" spc="-1" strike="noStrike">
                <a:solidFill>
                  <a:srgbClr val="000000"/>
                </a:solidFill>
                <a:latin typeface="Handwriting - Dakot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Handwriting - Dakot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)</a:t>
            </a:r>
            <a:r>
              <a:rPr b="0" lang="en-US" sz="2400" spc="-1" strike="noStrike" baseline="64000">
                <a:solidFill>
                  <a:srgbClr val="000000"/>
                </a:solidFill>
                <a:latin typeface="Handwriting - Dakot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 = (</a:t>
            </a:r>
            <a:r>
              <a:rPr b="0" lang="en-US" sz="2800" spc="-1" strike="noStrike">
                <a:solidFill>
                  <a:srgbClr val="000000"/>
                </a:solidFill>
                <a:latin typeface="Handwriting - Dakot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Handwriting - Dakot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)</a:t>
            </a:r>
            <a:r>
              <a:rPr b="0" lang="en-US" sz="2400" spc="-1" strike="noStrike" baseline="64000">
                <a:solidFill>
                  <a:srgbClr val="000000"/>
                </a:solidFill>
                <a:latin typeface="Handwriting - Dakot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3733920"/>
            <a:ext cx="44197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 </a:t>
            </a:r>
            <a:r>
              <a:rPr b="0" lang="en-US" sz="2800" spc="-1" strike="noStrike">
                <a:solidFill>
                  <a:srgbClr val="000000"/>
                </a:solidFill>
                <a:latin typeface="Handwriting - Dakot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Handwriting - Dakota"/>
              </a:rPr>
              <a:t>A</a:t>
            </a:r>
            <a:r>
              <a:rPr b="0" lang="en-US" sz="2400" spc="-1" strike="noStrike" baseline="64000">
                <a:solidFill>
                  <a:srgbClr val="000000"/>
                </a:solidFill>
                <a:latin typeface="Handwriting - Dakot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Handwriting - Dakot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Handwriting - Dakota"/>
              </a:rPr>
              <a:t>B</a:t>
            </a:r>
            <a:r>
              <a:rPr b="0" lang="en-US" sz="2400" spc="-1" strike="noStrike" baseline="64000">
                <a:solidFill>
                  <a:srgbClr val="000000"/>
                </a:solidFill>
                <a:latin typeface="Handwriting - Dakot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Handwriting - Dakot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Handwriting - Dakota"/>
              </a:rPr>
              <a:t>C</a:t>
            </a:r>
            <a:r>
              <a:rPr b="0" lang="en-US" sz="2400" spc="-1" strike="noStrike" baseline="64000">
                <a:solidFill>
                  <a:srgbClr val="000000"/>
                </a:solidFill>
                <a:latin typeface="Handwriting - Dakot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1074600" cy="10749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7086600" y="5334120"/>
            <a:ext cx="582480" cy="6444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7620120" y="5410080"/>
            <a:ext cx="720720" cy="7970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76320" y="4800600"/>
            <a:ext cx="6629400" cy="1700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8229600" y="5257800"/>
            <a:ext cx="498600" cy="550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343400" y="2666880"/>
            <a:ext cx="2666880" cy="381240"/>
          </a:xfrm>
          <a:custGeom>
            <a:avLst/>
            <a:gdLst>
              <a:gd name="textAreaLeft" fmla="*/ 24480 w 2666880"/>
              <a:gd name="textAreaRight" fmla="*/ 2642400 w 2666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50976" h="21600">
                <a:moveTo>
                  <a:pt x="0" y="0"/>
                </a:moveTo>
                <a:lnTo>
                  <a:pt x="150976" y="0"/>
                </a:lnTo>
                <a:lnTo>
                  <a:pt x="150976" y="21600"/>
                </a:lnTo>
                <a:lnTo>
                  <a:pt x="0" y="21600"/>
                </a:lnTo>
                <a:close/>
              </a:path>
              <a:path fill="lightenLess" w="150976" h="21600">
                <a:moveTo>
                  <a:pt x="0" y="0"/>
                </a:moveTo>
                <a:lnTo>
                  <a:pt x="150976" y="0"/>
                </a:lnTo>
                <a:lnTo>
                  <a:pt x="149576" y="1400"/>
                </a:lnTo>
                <a:lnTo>
                  <a:pt x="1400" y="1400"/>
                </a:lnTo>
                <a:close/>
              </a:path>
              <a:path fill="darken" w="150976" h="21600">
                <a:moveTo>
                  <a:pt x="150976" y="0"/>
                </a:moveTo>
                <a:lnTo>
                  <a:pt x="150976" y="21600"/>
                </a:lnTo>
                <a:lnTo>
                  <a:pt x="149576" y="20200"/>
                </a:lnTo>
                <a:lnTo>
                  <a:pt x="149576" y="1400"/>
                </a:lnTo>
                <a:close/>
              </a:path>
              <a:path fill="darkenLess" w="150976" h="21600">
                <a:moveTo>
                  <a:pt x="150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576" y="20200"/>
                </a:lnTo>
                <a:close/>
              </a:path>
              <a:path fill="lighten" w="150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3200400"/>
            <a:ext cx="4191120" cy="457200"/>
          </a:xfrm>
          <a:custGeom>
            <a:avLst/>
            <a:gdLst>
              <a:gd name="textAreaLeft" fmla="*/ 29520 w 4191120"/>
              <a:gd name="textAreaRight" fmla="*/ 4161600 w 4191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97867" h="21600">
                <a:moveTo>
                  <a:pt x="0" y="0"/>
                </a:moveTo>
                <a:lnTo>
                  <a:pt x="197867" y="0"/>
                </a:lnTo>
                <a:lnTo>
                  <a:pt x="197867" y="21600"/>
                </a:lnTo>
                <a:lnTo>
                  <a:pt x="0" y="21600"/>
                </a:lnTo>
                <a:close/>
              </a:path>
              <a:path fill="lightenLess" w="197867" h="21600">
                <a:moveTo>
                  <a:pt x="0" y="0"/>
                </a:moveTo>
                <a:lnTo>
                  <a:pt x="197867" y="0"/>
                </a:lnTo>
                <a:lnTo>
                  <a:pt x="196467" y="1400"/>
                </a:lnTo>
                <a:lnTo>
                  <a:pt x="1400" y="1400"/>
                </a:lnTo>
                <a:close/>
              </a:path>
              <a:path fill="darken" w="197867" h="21600">
                <a:moveTo>
                  <a:pt x="197867" y="0"/>
                </a:moveTo>
                <a:lnTo>
                  <a:pt x="197867" y="21600"/>
                </a:lnTo>
                <a:lnTo>
                  <a:pt x="196467" y="20200"/>
                </a:lnTo>
                <a:lnTo>
                  <a:pt x="196467" y="1400"/>
                </a:lnTo>
                <a:close/>
              </a:path>
              <a:path fill="darkenLess" w="197867" h="21600">
                <a:moveTo>
                  <a:pt x="1978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6467" y="20200"/>
                </a:lnTo>
                <a:close/>
              </a:path>
              <a:path fill="lighten" w="1978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73392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43800" y="30492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andwriting - Dakota"/>
              </a:rPr>
              <a:t>Calcul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6"/>
          <a:stretch/>
        </p:blipFill>
        <p:spPr>
          <a:xfrm>
            <a:off x="6858000" y="380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362320" y="2590920"/>
            <a:ext cx="54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Clique ici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59436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andwriting - Dakota"/>
              </a:rPr>
              <a:t>Tu peux actionner ce bouton seulement après avoir visionner le lie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10280" y="5562720"/>
            <a:ext cx="533520" cy="380880"/>
          </a:xfrm>
          <a:custGeom>
            <a:avLst/>
            <a:gdLst>
              <a:gd name="textAreaLeft" fmla="*/ 93600 w 533520"/>
              <a:gd name="textAreaRight" fmla="*/ 386640 w 5335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79" hR="21600" stAng="10800000" swAng="5400000"/>
                <a:lnTo>
                  <a:pt x="11861" y="0"/>
                </a:lnTo>
                <a:arcTo wR="7579" hR="21600" stAng="-5400000" swAng="1054311"/>
                <a:lnTo>
                  <a:pt x="19099" y="5565"/>
                </a:lnTo>
                <a:lnTo>
                  <a:pt x="17299" y="21600"/>
                </a:lnTo>
                <a:lnTo>
                  <a:pt x="10497" y="5565"/>
                </a:lnTo>
                <a:lnTo>
                  <a:pt x="12657" y="5565"/>
                </a:lnTo>
                <a:arcTo wR="7579" hR="21600" stAng="-4345689" swAng="-700348"/>
                <a:lnTo>
                  <a:pt x="9720" y="880"/>
                </a:lnTo>
                <a:arcTo wR="7579" hR="21600" stAng="-5753963" swAng="-5046037"/>
                <a:close/>
              </a:path>
              <a:path fill="darkenLess" w="21600" h="21600">
                <a:moveTo>
                  <a:pt x="0" y="21600"/>
                </a:moveTo>
                <a:arcTo wR="7579" hR="21600" stAng="10800000" swAng="5400000"/>
                <a:lnTo>
                  <a:pt x="7579" y="0"/>
                </a:lnTo>
                <a:arcTo wR="7579" hR="21600" stAng="-5400000" swAng="353963"/>
                <a:lnTo>
                  <a:pt x="9720" y="880"/>
                </a:lnTo>
                <a:arcTo wR="7579" hR="21600" stAng="-5753963" swAng="-5046037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20:05:38Z</dcterms:created>
  <dc:creator>LAMISS</dc:creator>
  <dc:description/>
  <dc:language>en-US</dc:language>
  <cp:lastModifiedBy>LAMISS</cp:lastModifiedBy>
  <dcterms:modified xsi:type="dcterms:W3CDTF">2008-04-15T13:13:59Z</dcterms:modified>
  <cp:revision>176</cp:revision>
  <dc:subject/>
  <dc:title>À toi de jouer!</dc:title>
</cp:coreProperties>
</file>